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2A4A-B764-46F0-9C09-B69D3578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540-56B0-4E5D-B26A-9088AA58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9DBF-8CDA-451C-AAEC-1042F44E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A88A-0E88-4520-8A84-66072A52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B915-5489-46D4-9A51-E6648A3A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3E9C-E051-4DD7-B1FA-E640F840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9A62-B9A7-4917-89A8-3201BCB7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95BC-0D28-428E-BB5D-3D9DAA0D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300A-9388-49BE-8DBE-83D9D03E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258A-C470-4223-A3F0-BDA3AAED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01F5-4904-456C-8503-E73EDFEB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5DF-0DCE-494D-ADA3-DED52986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F85A-0B93-4D95-B229-32A06B99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F527-6105-4096-85CB-1919CD36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1113-C7BD-4F70-9E6B-CA644824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667E-910F-4FB3-AF14-DA623DE2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39EE-10BF-4966-9673-681DA79D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9743-EC7E-4AF9-A749-A595275E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A40-9A51-40D1-AAD4-7FC89BD0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CA9D-5A98-46E0-BF57-3869FDCF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239A-2CA8-4C26-964E-1F11C1F2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D7CB-A64D-4A35-9EF0-33A1C827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1931-F865-45AE-AD7D-E8B53C97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0B3-DC1C-4A02-A8F4-44EB3146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AD41-10C3-4597-8A95-079FE0B6B2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234C-DEDE-4EBE-9F76-5D4C46C0D1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nd_Lizard_2008_G3.jpg" TargetMode="External"/><Relationship Id="rId2" Type="http://schemas.openxmlformats.org/officeDocument/2006/relationships/hyperlink" Target="http://ru.wikipedia.org/wiki/&#1060;&#1072;&#1081;&#1083;:Sand_Lizard_2008_G1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ru.wikipedia.org/wiki/&#1060;&#1072;&#1081;&#1083;:Sand_Lizard_2008_G3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onlinedics.ru/slovar/bes/o/otrjad.html" TargetMode="External"/><Relationship Id="rId2" Type="http://schemas.openxmlformats.org/officeDocument/2006/relationships/hyperlink" Target="http://www.onlinedics.ru/slovar/bes/d/1-dlina.html" TargetMode="External"/><Relationship Id="rId3" Type="http://schemas.openxmlformats.org/officeDocument/2006/relationships/hyperlink" Target="http://www.onlinedics.ru/slovar/fam/n/nilskij.html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2;&#1086;&#1083;&#1086;&#1075;&#1080;&#1103;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78;&#1080;&#1089;&#1090;&#1072;&#1103;_&#1095;&#1077;&#1088;&#1077;&#1087;&#1072;&#1093;&#1072;" TargetMode="External"/><Relationship Id="rId2" Type="http://schemas.openxmlformats.org/officeDocument/2006/relationships/hyperlink" Target="http://ru.wikipedia.org/w/index.php?title=&#1053;&#1072;&#1084;&#1072;&#1082;&#1074;&#1072;&#1083;&#1077;&#1085;&#1076;&#1089;&#1082;&#1072;&#1103;_&#1095;&#1077;&#1088;&#1077;&#1087;&#1072;&#1093;&#1072;&amp;action=edit&amp;redlink=1" TargetMode="External"/><Relationship Id="rId3" Type="http://schemas.openxmlformats.org/officeDocument/2006/relationships/hyperlink" Target="http://ru.wikipedia.org/w/index.php?title=&#1053;&#1072;&#1084;&#1072;&#1082;&#1074;&#1072;&#1083;&#1077;&#1085;&#1076;&#1089;&#1082;&#1072;&#1103;_&#1095;&#1077;&#1088;&#1077;&#1087;&#1072;&#1093;&#1072;&amp;action=edit&amp;redlink=1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otosbornik.ru/wallpapers/5440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fotosbornik.ru/wallpapers/2280.html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fotosbornik.ru/wallpapers/740.html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fotosbornik.ru/wallpapers/536.html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fotosbornik.ru/wallpapers/387.html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fotosbornik.ru/wallpapers/386.html" TargetMode="External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88;&#1077;&#1085;&#1080;&#1077;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8;&#1080;&#1095;&#1085;&#1077;&#1074;&#1072;&#1103;_&#1095;&#1077;&#1088;&#1077;&#1087;&#1072;&#1093;&#1072;" TargetMode="External"/><Relationship Id="rId2" Type="http://schemas.openxmlformats.org/officeDocument/2006/relationships/hyperlink" Target="http://ru.wikipedia.org/wiki/&#1060;&#1072;&#1081;&#1083;:Testudo_marginata6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7720" y="304920"/>
            <a:ext cx="8007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м наших героев нужно понят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х образы будем мы раскрывать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 дальше о них прочитае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Героев поближе узнае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5331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щер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отряд пресмыкающихся отряда чешуйчатых. Тело длиной от нескольких см до 3 м и более (комодский варан), покрыто ороговелыми чешуйками. У большинства хорошо развиты конечности. Более 3900 видов, на всех континентах, кроме Антарктиды, преимущественно в тропиках и субтропиках; обитают в степях, пустынях и лесах. Многие способны отбрасывать хвост (автотомия). Некоторые ядовиты (ядозубы). Истребляют насекомых-вредителей. Мясо некоторых видов съедобно, кожа используется для различных поделок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ящериц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Ящерица интересна тем, что она умеет сбрасывать старый хвост и выращивать новый, правда новый хвост растет довольно медленно. Отброшенный хвост ящерицы какое-то время продолжает извиваться, что дает ящерице выигрыш во времени, чтобы убежать от птицы или хищного животного.  Способность ящерицы выращивать новый хвост называется регенераци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ара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аран относится к ящерицам, язык у него раздваивается, как у змеи. Вараны хорошо бегают, ныряют и плавают. Питаются вараны яйцами, лягушками, моллюсками, рыбой, крабами, ящерицами, змеями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Хамелео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Хамелеон тоже относится к ящерицам. Наиболее известен хамелеон тем, что умеет изменять окраску тела. Глаза  вращаются в разные стороны, не зависимо друг от друга, что помогает хамелеону ловить насекомых. Хвост обматывается вокруг веток, а еще он держится лапками, похожими на клешни. Картинки и фото хамелеонов очень оригинальны, так как весьма оригинальные они с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щерица прытка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5257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прыткой ящерицы светлый низ живота, а на спине есть полосы. Самцы обычно темнее и имеют более яркую раскраску; в период спаривания они становятся зелёными. В длину ящерицы достигают 25 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ть около 10 признаваемых подвидов прыткой ящерицы, в бывшем СССР встречается 6 из них. Прыткая ящерица считается исчезающим видом и охраняется законом на большей части территории Европы, в отличие от России, где подвид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Lacerta agilis exigua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есьма распространён и многочисле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05720" y="1981080"/>
            <a:ext cx="2057400" cy="152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00800" y="3809880"/>
            <a:ext cx="2514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рокодилы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рокодил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отряд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водных пресмыкающихся.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Длин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до 7 м (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нильский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крокодил). Живут в реках, озерах и болотах. Питаются главным образом рыбой.                 26 видов и подвидов в Красной книге Международного совета охраны природы и природных ресурсов. В США, Японии, на Кубе и в ряде других стран крокодилов разводят на ферм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мея - пресмыкающееся с длинным извивающимся телом, часто с ядовитыми железами в па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ремучая з. (с гремящими роговыми кольцами на конце хвоста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рская з. (в океанических водах тропиков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762120"/>
            <a:ext cx="800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мире существует около 2700 разновидностей змей, из которых 375 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довитые зме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Многие из змей относятся к вымирающим, поскольку люди  уничтожали их, считая своими непосредственными врагами, и даже не разбираясь, ядовитая змея или нет. Множество змей погибло и из-за моды на одежду и аксессуары из змеиной кожи, а также из-за необходимости в змеином яде как лекарстве. Конечно, более гуманным является способ, при котором животное остается в живых, но к сожалению, браконьеры не думают о животных, их интересует только прибы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Некоторые статистические данные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самыми маленькими змеями являются слепые, которые  в длину достигают около 5 с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самыми большими змеями являются анаконды, какие в длину достигают 12 м. и боле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продолжительность жизни рептилий в неволе достигает 50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меи и крокодил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фото змей... (18 шт)"/>
          <p:cNvPicPr/>
          <p:nvPr/>
        </p:nvPicPr>
        <p:blipFill>
          <a:blip r:embed="rId1"/>
          <a:stretch/>
        </p:blipFill>
        <p:spPr>
          <a:xfrm>
            <a:off x="3048120" y="4267080"/>
            <a:ext cx="2438280" cy="1295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324480" y="4038480"/>
            <a:ext cx="2362320" cy="1447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85800" y="1752480"/>
            <a:ext cx="223056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Фото - Крокодилы"/>
          <p:cNvPicPr/>
          <p:nvPr/>
        </p:nvPicPr>
        <p:blipFill>
          <a:blip r:embed="rId4"/>
          <a:stretch/>
        </p:blipFill>
        <p:spPr>
          <a:xfrm>
            <a:off x="5105520" y="1676520"/>
            <a:ext cx="2438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террариум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10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 помещение для содержания наземных животных. Это различные амфибии (лягушки, жабы, тритоны, саламандры), рептилии (ящерицы, змеи, черепахи, крокодил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2857680" cy="1743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2880" y="3809880"/>
            <a:ext cx="3733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380600"/>
            <a:ext cx="4114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ествует несколько типов террариумов: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ризонталь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имеет большую площадь дна и незначительную высоту, предназначен для содержания не лазающих животных, например пустынные виды, безногие ящерицы, земноводные (кроме древесных)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тикальны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здесь высота важнее площади дна, поскольку используется для содержания древесных видов (квакши, гекконы, древесные зме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781200"/>
            <a:ext cx="3733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ля животных, любящих купаться, должен быть бассейн, такого размера, чтобы гад в нём свободно уместился, или даже плавал (пресноводные черепахи, амфибии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66400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свещают террариум, как и аквариум, люминесцентными лампам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4144320"/>
            <a:ext cx="4114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знайте заранее все необходимые требования содержания и размер животного. Малыши всех животных привлекательны и забавны, но следует знать,  они растут и достигают, если не природных размеров, то близких к ним. Например, игуаны вырастают до 1,5 м; питоны до 3-5 м, эублефары до 15 см, красноухие черепахи до 60 см и т. д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то такая черепах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едленно двигающееся на коротких конечностях пресмыкающееся, покрытое (исключая кожистую черепаху) костным панцирем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ход за террариумо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жедневно чистить и убирать поверхность грунта, опрыскивать растения, протирать стекла и стенки, песок и камни периодически прокаливать. Кормить ящериц насекомыми, слизнями, мотылем. Болотную черепаху кусочками мяса, рыбой. Сухопутную кусочками фруктов и овощей, листьями салата, капус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рмят  один раз в 2-3 дня. Ящериц и черепах кормят днем на солнц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кватеррариум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мещение с большой водной часть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грунта используют гальку, крупнозернистый пес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029200" y="3886200"/>
            <a:ext cx="3048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304920"/>
            <a:ext cx="8007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ычно акватеррариумы     изготавливаются для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птилий, жизнь которых неразрывно связана с водой (крокодилы, водные черепахи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мфибий, требующих постоянно высокой влажности воздуха (древолазы, саламандры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обычных животных, ведущих полуводный – полуназемный образ жизни (рыбы - илистые прыгуны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26120" y="3169080"/>
            <a:ext cx="49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Животные в разных групп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таршей группе помещают черепаху.  Дети наблюдают за ящерицами, черепахами: их повадками и  узнают среду обит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подготовительной группе узнают размножение ящериц и черепах. Узнают о сезонной жизни животных - как зимуют, где живу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спользуемая 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- материал предоставленный педагог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 сайты интернета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www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/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-  учебник « я познаю мир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943600" y="304920"/>
            <a:ext cx="2495520" cy="1600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3257280" cy="1905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Картинка 39 из 130"/>
          <p:cNvPicPr/>
          <p:nvPr/>
        </p:nvPicPr>
        <p:blipFill>
          <a:blip r:embed="rId4"/>
          <a:stretch/>
        </p:blipFill>
        <p:spPr>
          <a:xfrm>
            <a:off x="4800600" y="4114800"/>
            <a:ext cx="2857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А это нам интересно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экологической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 точки зрения черепахи делятся на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орских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земных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а наземные в свою очередь подразделяются на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ухопутных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есноводных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А ты это знаешь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рские виды черепах как правило, больше сухопутных и пресноводных сородичей. Крупнейшими из современных черепах являются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кожистые черепах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с длиной панциря 2 м и весом более 900 кг. Самый мелкий вид черепах — крапчатая, или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намаквалендская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 черепах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е превышающая 10 см в дли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Dermochelys coriacea Кожистая черепаха"/>
          <p:cNvPicPr/>
          <p:nvPr/>
        </p:nvPicPr>
        <p:blipFill>
          <a:blip r:embed="rId4"/>
          <a:stretch/>
        </p:blipFill>
        <p:spPr>
          <a:xfrm>
            <a:off x="5410080" y="1371600"/>
            <a:ext cx="3467160" cy="2666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34440" y="1541160"/>
            <a:ext cx="25092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440" bIns="127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2100"/>
            </a:b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vid020" descr="вид"/>
          <p:cNvPicPr/>
          <p:nvPr/>
        </p:nvPicPr>
        <p:blipFill>
          <a:blip r:embed="rId5"/>
          <a:stretch/>
        </p:blipFill>
        <p:spPr>
          <a:xfrm>
            <a:off x="5486400" y="4343400"/>
            <a:ext cx="3086280" cy="1905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30480" y="4358880"/>
            <a:ext cx="18072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440" bIns="127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 вот и они черепаш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Фото - Красноухая черепах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057400"/>
            <a:ext cx="2286000" cy="1968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238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1223899013" descr="Фото - Морская черепах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86200" y="190512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20280" y="2134080"/>
            <a:ext cx="109800" cy="16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9000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Фото - Черепах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05720" y="2133720"/>
            <a:ext cx="1904760" cy="1892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Фото - Черепахи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43000" y="4724280"/>
            <a:ext cx="1981080" cy="1663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1218345978" descr="Фото - Черепахи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581280" y="4191120"/>
            <a:ext cx="2438640" cy="1904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Фото - Черепахи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629400" y="4572000"/>
            <a:ext cx="22096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ак же находят еду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ерепахи обладают хорошо развитым цветовым </a:t>
            </a: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зрением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. При поиске пищи они в первую очередь ориентируются на её цвет и лишь затем на запах и вкус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репаха и ее потомст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огие черепахи делают несколько кладок в течение сезона. Черепахи почти всех видов после откладки яиц теряют к ним всякий интерес и не проявляют никакой заботы о потомстве. Единственное известное науке исключение —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коричневая черепах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61160" y="4343400"/>
            <a:ext cx="238284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то такая болотная черепах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Болотная черепаха"/>
          <p:cNvPicPr/>
          <p:nvPr/>
        </p:nvPicPr>
        <p:blipFill>
          <a:blip r:embed="rId1"/>
          <a:stretch/>
        </p:blipFill>
        <p:spPr>
          <a:xfrm>
            <a:off x="6172200" y="4724280"/>
            <a:ext cx="2971800" cy="1981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3880" y="1981080"/>
            <a:ext cx="609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Живут до 25 л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208240"/>
            <a:ext cx="70106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Место обитания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Южная, Центральная и Восточная Европа, Передняя Азия, Кавказ, Закавказье, Северо-запад Казахстана, Север Ирана, Западная Туркмения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Северо-западная Африк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3152160"/>
            <a:ext cx="6400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Содержание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ля болотных черепах необходим акватеррариум горизонтального типа для животных, объемом от 150 л для 1-2 особей и локальным, направленным вниз подогревом. Температур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д подогревом днем до 30-32°С. Температур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 18-20°С. Содержать черепах можно группо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4570200"/>
            <a:ext cx="403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Кормление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еррариумных условиях кормят рыбой, кусками сырого мяса и растительными добавкам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5408640"/>
            <a:ext cx="388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Разведение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яйцекладущий вид. Количество яиц в кладке от 3 до 19 штук. Инкубация при температуре 27-29°С – 68-100 дне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ухопутная черепах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496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хопутные черепахи населяют обычно открытые пространства, степи, саванны и пустыни, лишь немногие виды встречаются в сырых и лесистых местностях . Сухопутные черепахи могут поразительно долго обходиться без пищи и воды, Продолжительность жизни очень велика — до 50 — 100, а изредка до 150 л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27636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22T09:50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